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BF280-66AD-4CAD-83F0-D4ED847CD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147C2-D9F3-41C4-8F88-C1FA123A0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58750-0870-4A69-9E71-BB317CC0C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EF1D-4C3F-46C7-8738-F0FFC8727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DEDA-905F-458F-95D9-25AC135B3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BBA7-E55A-4E5B-9F29-6C774E6EE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A1F4-5FC0-4B67-BEB1-00C1F75B0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37C2-1F37-4215-B92D-7B031AFAD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96BA-B2DE-4086-A017-3262829A5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3BE4-259D-4E8E-90E9-C60D4B73F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0173-8342-4B0A-821F-CAB8B1395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2929-0F45-49D6-AA7E-0722D920C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EEF9-7013-4E3A-9942-64AE1AB2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DD7B-CBFF-4FF9-8950-9B286FF2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7FA0-AE82-4C51-A2F2-BA8D9B52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C3D35-3607-4AF6-82E6-AE5336D379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aimah Mun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Naimah Mun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Naimah Muni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Naimah Muni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Naimah Muni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00200" cy="5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Hola! Mi llamo Naimah. Yo tengo catorce años. Yo vivo en New York. Mis dos hermanos esta fuerte. Mis dos hermanas esta buena.Yo soy joven y divertida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ueno. Él es guapo.                                                        Naima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No. Yo estoy cansada. Mi hermano puede ir contego.         Geetik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dias.  ¿Tu quieres venir a mi casa? Yo estoy aburrida.     Naima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44197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Zaara es mi hermana. Ella es bonita. Ella quiere venir. Ella tiene juguetes.  An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Seguro tu quieres venir.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Naima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Nosotros venir. Gracias                                                                          An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aimah Mun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Naimah Mun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Naimah Muni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Naimah Muni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Naimah Muni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57"/>
          <p:cNvSpPr/>
          <p:nvPr/>
        </p:nvSpPr>
        <p:spPr>
          <a:xfrm>
            <a:off x="152280" y="3581280"/>
            <a:ext cx="1600200" cy="5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Hola! Mi llamo Naimah. Yo tengo catorce años. Yo vivo en New York. Mis dos hermanos esta fuerte. Mis dos hermanas esta buena.Yo soy joven y divertida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142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144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146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27"/>
          <p:cNvSpPr/>
          <p:nvPr/>
        </p:nvSpPr>
        <p:spPr>
          <a:xfrm>
            <a:off x="2743200" y="3886200"/>
            <a:ext cx="548640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Nuestro helados es vainilla. Tu helados chocolate. Tu eres simpático. ¿qué comer tu cas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Nosotros estamos hambriento. ¿Dónde esta tú casa?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Geetik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7"/>
          <p:cNvSpPr/>
          <p:nvPr/>
        </p:nvSpPr>
        <p:spPr>
          <a:xfrm>
            <a:off x="2819520" y="3276720"/>
            <a:ext cx="426708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De nada. ¿cuánto ustedes vienen? Mis primas vienen, tienen helados.    Naimah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venir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. Gracias.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Geetika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7"/>
          <p:cNvSpPr/>
          <p:nvPr/>
        </p:nvSpPr>
        <p:spPr>
          <a:xfrm>
            <a:off x="2743200" y="4495680"/>
            <a:ext cx="441972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Yo vivir Astoria. ¿Tu estas cansada?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Naima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27"/>
          <p:cNvSpPr/>
          <p:nvPr/>
        </p:nvSpPr>
        <p:spPr>
          <a:xfrm>
            <a:off x="2666880" y="5105520"/>
            <a:ext cx="4386240" cy="6094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Nosotros somos divertida. ¿quién es Ariana Grande? Sus cabello bonita.      Geetika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tamos aquí. Ariana Grande es actriz.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Anum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61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7T18:30:22Z</dcterms:modified>
  <cp:revision>115</cp:revision>
  <dc:subject/>
  <dc:title>Profile</dc:title>
</cp:coreProperties>
</file>